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583-6E17-48D2-B831-11645400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5F2-37ED-4390-812D-8AF1089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558-1DF1-4550-AEEB-52CAD4BD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F73-F786-4487-A1B2-755976B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A940-A803-449F-8927-B08CB225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8DA3-4080-43C4-A08F-EDEE994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016-5A7A-4504-ACE5-014B6746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7042-C1B9-49A3-8EE2-D6D7793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DE81-8D70-4B41-B42D-A4CAED3A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E89B-AA7A-4F73-A179-82D8C0F5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09E7-4033-456A-BAFE-2B8A1C9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C18-5D3B-4834-BDF6-4AE036C5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92C5-C9CA-41BF-99E7-02BA364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5C96-26E0-4AF5-9EB0-86DB3CD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C849-67A0-40A5-92CF-007902A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8A28-1164-4BEE-ADF8-A1451D53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899C-7EA7-436B-BB83-AEEFEB85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BDE-1697-4242-9479-633EB7A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E1E-32CA-4102-AA3E-D393326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F58-365A-4C27-A023-B0054CA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1A3-8CA5-4CE8-B9BB-8C58900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AC0-B7FB-4BF0-9590-C8B9157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B66-097D-471C-B0B2-D6815F5E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356-2767-4D8B-8C62-9E2F527E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E3F5-1925-41B8-9CE8-F528BFBC06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A98-54A7-4D41-80EA-D0ED718A3B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LCOME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77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knowing when to talk and when to zip i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silence during silent work peri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wing respect by listening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ing attention when I am talking and when your classmates are asking questions or sharing. Do not put your head down, you might miss somet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rs. McCall-What you can expect from m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husia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se of Hum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man being, I make mistakes…we all 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the constructivist school of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equity not e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 expect from you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ry your b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articip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ow 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open-mi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cebreaker-1 Truth and 1 L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one should have a notecard on their des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front write one thing about yourself that is true. EX. One thing you did this summer, one thing you are good at, one thing you want, etc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back of the card write one thing that isn’t true. EX. One thing you wish you did, one thing you wish you were good at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ctivity will become our first assignment tomorrow.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rs. McCall’s Rules to a Happier Classroom. </a:t>
            </a: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y job is to teach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our job is to learn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nly rule 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 respect to me, yourself, your classm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s lik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when the bell ring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be in your seat, ready to begin working on the board assignment when the bell 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being prepare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have proper materials (books, pencils, paper, etc) Any homework assignments are due at the beginning of the period to the top tr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must have an English notebook where they keep all their writings. This will be collected period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00:07Z</dcterms:created>
  <dc:creator>rebecca</dc:creator>
  <dc:description/>
  <dc:language>en-US</dc:language>
  <cp:lastModifiedBy>Angie</cp:lastModifiedBy>
  <dcterms:modified xsi:type="dcterms:W3CDTF">2009-08-19T09:34:55Z</dcterms:modified>
  <cp:revision>4</cp:revision>
  <dc:subject/>
  <dc:title>Mrs. McCall’s Rules to a Happier Classroom. </dc:title>
</cp:coreProperties>
</file>